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otabsatzversu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h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otabsatzversu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otabsat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ehl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09720" y="54936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otabsatz fehl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urolog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00880" y="54936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hne Kotabsatzversu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orex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ppet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vorhand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Tier kann nicht fres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Fressfunk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chluckstör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neurologische 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7" idx="3"/>
            <a:endCxn id="16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rikopharynge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chalas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ollwu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etanu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chanisch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indern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00880" y="54936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hne Kotabsatzversu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orex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ppet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vorhand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Tier kann nicht fres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Fressfunk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chluckstör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mechanisches Hindern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2" idx="3"/>
            <a:endCxn id="16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emdkörpe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wellung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umo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u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0880" y="54936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hne Kotabsatzversu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orex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ppet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vorhand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Tier kann nicht fres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Fressfunk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au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7" idx="3"/>
            <a:endCxn id="17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ieferluxa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aumuskelmyos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äs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Nervus trigeminu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ein Appet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rha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Tier wi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cht fress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01600" y="549360"/>
            <a:ext cx="72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ot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ohne Kotabsatzversu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norex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kein Appet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vorha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ier wi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 fress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5920" y="54936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otabsatz fehlend &gt; ohne Kotabsatzversuch &gt; Anorexie &gt; kein Appet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orhanden &gt; Tier will nicht fress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7" idx="3"/>
            <a:endCxn id="18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ystemische Krankhei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eruchssinn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icht-schmeckendes Futte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sych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Stress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neuromuskulä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6280" y="549360"/>
            <a:ext cx="79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Kotabsatz fehlend &gt; ohne Kotabsatzversuch &gt; neuromuskuläre 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3" idx="3"/>
            <a:endCxn id="18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Rückenmarksläsion bei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1-S3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äs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ervus pudend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olyneuropath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unktions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latten Muskulatu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396840"/>
            <a:ext cx="190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 = Schwanzwirb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merz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7360" y="549360"/>
            <a:ext cx="646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otabsatz fehlend &gt; ohne Kotabsatzversuch &gt; Schmerz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9" idx="3"/>
            <a:endCxn id="19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nalbeutelabszes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erianale Fiste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kolorektaler Tumo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otabsatzversu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05120" y="549360"/>
            <a:ext cx="44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mit Kotabsatzversu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3"/>
            <a:endCxn id="10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Kolitis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triktu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Knochenko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ahyperplas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erinealhern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h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otabsatzversu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euromuskulä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10" idx="3"/>
            <a:endCxn id="113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4" name=""/>
          <p:cNvCxnSpPr>
            <a:stCxn id="110" idx="3"/>
            <a:endCxn id="111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chmerz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0" idx="3"/>
            <a:endCxn id="115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1005840" y="549360"/>
            <a:ext cx="46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ot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hne Kotabsatzversu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norex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orex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4360" y="549360"/>
            <a:ext cx="58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hne Kotabsatzversu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orex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ppet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vorha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kein Appet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vorha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9" idx="3"/>
            <a:endCxn id="12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4" name=""/>
          <p:cNvCxnSpPr>
            <a:stCxn id="119" idx="3"/>
            <a:endCxn id="12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7" idx="3"/>
            <a:endCxn id="128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ppet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rha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Tier kan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cht fress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82160" y="549360"/>
            <a:ext cx="67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ot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ohne Kotabsatzversu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norex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ppet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vorha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ier kan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 fress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merz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e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ressvorga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ressfun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1" idx="3"/>
            <a:endCxn id="13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5" name=""/>
          <p:cNvCxnSpPr>
            <a:stCxn id="131" idx="3"/>
            <a:endCxn id="13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1082160" y="549360"/>
            <a:ext cx="67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Kot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ohne Kotabsatzversu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norex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ppet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vorhand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Tier kann nicht fress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merz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essvorga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89720" y="549360"/>
            <a:ext cx="72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t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hne Kotabsatzversu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orex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ppet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vorhand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Tier kann nicht fres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Schmerzen beim Fressvorga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8" idx="3"/>
            <a:endCxn id="14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chleimhautulzer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eck-Lesions (Katze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essfun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uck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u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3" idx="3"/>
            <a:endCxn id="14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7" name=""/>
          <p:cNvCxnSpPr>
            <a:stCxn id="143" idx="3"/>
            <a:endCxn id="14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082160" y="549360"/>
            <a:ext cx="67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ot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ohne Kotabsatzversu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norex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ppet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vorhand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Tier kann nicht fres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Fressfun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luck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echanisch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indern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0" idx="3"/>
            <a:endCxn id="15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4" name=""/>
          <p:cNvCxnSpPr>
            <a:stCxn id="150" idx="3"/>
            <a:endCxn id="15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100880" y="54936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otabsatz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ohne Kotabsatzversu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norex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ppet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vorhand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Tier kann nicht fress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Fressfunk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chluck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neurolog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Gregor und Steffi</cp:lastModifiedBy>
  <cp:lastPrinted>1999-05-13T12:26:48Z</cp:lastPrinted>
  <dcterms:modified xsi:type="dcterms:W3CDTF">2008-10-16T14:44:28Z</dcterms:modified>
  <cp:revision>334</cp:revision>
  <dc:subject/>
  <dc:title>Vorstellung einer Neuheit</dc:title>
</cp:coreProperties>
</file>